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.png" ContentType="image/png"/>
  <Override PartName="/ppt/media/image1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3.png" ContentType="image/png"/>
  <Override PartName="/ppt/media/image26.jpeg" ContentType="image/jpeg"/>
  <Override PartName="/ppt/media/image27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68B4-CE6E-43F9-B188-A94AC5C9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8C65-E845-44E5-81FA-DCE6E086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D0B7-5247-43BD-B4B7-E255FF27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58C8-4AFF-42C9-9DC9-289C4EFD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9F28-1DFA-4FCA-BD6A-77A2FCF8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06D2-CAD3-4B93-80C0-695501E5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7B8F-C030-43C9-BA1D-15D5DC12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BAC9-95D3-4E02-8726-664BDE84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B348-7A80-4EF4-9203-E31C44C9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09B5-8236-4EFF-832B-E47F4ED7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E7A9-B141-49ED-AF8D-84CD7915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EFBC-F3F8-49B0-A1FA-EBDCCB2D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3B78-6D99-4FC3-B505-0260E0E3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EF68-E524-4CCD-AA46-4C005CAF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5E48-4315-4CE9-BE2F-656EF1C4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EFD8-96BF-4A12-96AB-4512F25B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EB38-0FB5-4213-936D-0F2A1418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EA93-FF81-4F07-A9B2-68001DDD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EB20-B667-4074-BE1C-EC0E26C7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40F1-6954-4C3D-AFE7-A809B1CD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EAFA-C45A-48E7-84D0-F416591E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4237-1E3C-4410-854B-6B17DCC4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2055-FE4E-443F-8AD4-F1B95C1B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7EBB-22F7-421C-B56C-6E06F455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F2EF-9304-496E-AC5C-D9720B96AD4B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1C84-4BE5-4D12-930F-AF7CB2CC7B31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103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Ruben Garci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Rectangle 1" descr=""/>
          <p:cNvPicPr/>
          <p:nvPr/>
        </p:nvPicPr>
        <p:blipFill>
          <a:blip r:embed="rId1"/>
          <a:stretch/>
        </p:blipFill>
        <p:spPr>
          <a:xfrm>
            <a:off x="3449520" y="92160"/>
            <a:ext cx="2567160" cy="11397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"/>
          <p:cNvSpPr/>
          <p:nvPr/>
        </p:nvSpPr>
        <p:spPr>
          <a:xfrm>
            <a:off x="2743200" y="1066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reek city-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http://t1.gstatic.com/images?q=tbn:ANd9GcSR1can7oqzCYghd0eQWZgJSlfHqpdwD9IcyKbSSuLdvzFasTU"/>
          <p:cNvPicPr/>
          <p:nvPr/>
        </p:nvPicPr>
        <p:blipFill>
          <a:blip r:embed="rId2"/>
          <a:stretch/>
        </p:blipFill>
        <p:spPr>
          <a:xfrm>
            <a:off x="1066680" y="2133720"/>
            <a:ext cx="6670800" cy="4343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77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1" descr=""/>
          <p:cNvPicPr/>
          <p:nvPr/>
        </p:nvPicPr>
        <p:blipFill>
          <a:blip r:embed="rId1"/>
          <a:stretch/>
        </p:blipFill>
        <p:spPr>
          <a:xfrm>
            <a:off x="2700360" y="165240"/>
            <a:ext cx="4621320" cy="11458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0" y="137160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tudy of wisdom and the right way to l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jdskfjds.jpg"/>
          <p:cNvPicPr/>
          <p:nvPr/>
        </p:nvPicPr>
        <p:blipFill>
          <a:blip r:embed="rId2"/>
          <a:stretch/>
        </p:blipFill>
        <p:spPr>
          <a:xfrm>
            <a:off x="4572000" y="1752480"/>
            <a:ext cx="4114800" cy="478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ctangle 1" descr=""/>
          <p:cNvPicPr/>
          <p:nvPr/>
        </p:nvPicPr>
        <p:blipFill>
          <a:blip r:embed="rId1"/>
          <a:stretch/>
        </p:blipFill>
        <p:spPr>
          <a:xfrm>
            <a:off x="2614680" y="92160"/>
            <a:ext cx="4176720" cy="1139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"/>
          <p:cNvSpPr/>
          <p:nvPr/>
        </p:nvSpPr>
        <p:spPr>
          <a:xfrm>
            <a:off x="1676520" y="10666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rea of land nearly surrounded by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http://t3.gstatic.com/images?q=tbn:ANd9GcTL0Bwvv86KXALrRdTCKL27b6CFKBfBlPyiiYC5jkPVbExAIsrE"/>
          <p:cNvPicPr/>
          <p:nvPr/>
        </p:nvPicPr>
        <p:blipFill>
          <a:blip r:embed="rId2"/>
          <a:stretch/>
        </p:blipFill>
        <p:spPr>
          <a:xfrm>
            <a:off x="1905120" y="2362320"/>
            <a:ext cx="5391000" cy="4038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77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3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Rectangle 1" descr=""/>
          <p:cNvPicPr/>
          <p:nvPr/>
        </p:nvPicPr>
        <p:blipFill>
          <a:blip r:embed="rId1"/>
          <a:stretch/>
        </p:blipFill>
        <p:spPr>
          <a:xfrm>
            <a:off x="1573200" y="317520"/>
            <a:ext cx="7265880" cy="11462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2286000" y="16002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ar between Athens and Spa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http://t3.gstatic.com/images?q=tbn:ANd9GcSyB9tTsn5OTZ5_kSDrcOShDZilqsTVE73O40WlxdJyjXI8QVqc"/>
          <p:cNvPicPr/>
          <p:nvPr/>
        </p:nvPicPr>
        <p:blipFill>
          <a:blip r:embed="rId2"/>
          <a:stretch/>
        </p:blipFill>
        <p:spPr>
          <a:xfrm>
            <a:off x="1905120" y="2438280"/>
            <a:ext cx="5825880" cy="3962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77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5" dur="77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Rectangle 1" descr=""/>
          <p:cNvPicPr/>
          <p:nvPr/>
        </p:nvPicPr>
        <p:blipFill>
          <a:blip r:embed="rId1"/>
          <a:stretch/>
        </p:blipFill>
        <p:spPr>
          <a:xfrm>
            <a:off x="2541600" y="92160"/>
            <a:ext cx="4091040" cy="1139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2"/>
          <p:cNvSpPr/>
          <p:nvPr/>
        </p:nvSpPr>
        <p:spPr>
          <a:xfrm>
            <a:off x="2209680" y="1295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kind of government that is run by a small group of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3" descr="jpgggg.jpg"/>
          <p:cNvPicPr/>
          <p:nvPr/>
        </p:nvPicPr>
        <p:blipFill>
          <a:blip r:embed="rId2"/>
          <a:stretch/>
        </p:blipFill>
        <p:spPr>
          <a:xfrm>
            <a:off x="2666880" y="2438280"/>
            <a:ext cx="3611520" cy="4191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7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ctangle 1" descr=""/>
          <p:cNvPicPr/>
          <p:nvPr/>
        </p:nvPicPr>
        <p:blipFill>
          <a:blip r:embed="rId1"/>
          <a:stretch/>
        </p:blipFill>
        <p:spPr>
          <a:xfrm>
            <a:off x="3067200" y="317520"/>
            <a:ext cx="3187440" cy="11462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1752480" y="1371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heltered place along a coast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3" descr="ship greek.jpg"/>
          <p:cNvPicPr/>
          <p:nvPr/>
        </p:nvPicPr>
        <p:blipFill>
          <a:blip r:embed="rId2"/>
          <a:stretch/>
        </p:blipFill>
        <p:spPr>
          <a:xfrm>
            <a:off x="1905120" y="2133720"/>
            <a:ext cx="6186240" cy="3962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77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3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2511360" y="-55440"/>
            <a:ext cx="3743280" cy="976320"/>
          </a:xfrm>
          <a:prstGeom prst="rect">
            <a:avLst/>
          </a:prstGeom>
          <a:ln w="0">
            <a:noFill/>
          </a:ln>
        </p:spPr>
      </p:pic>
      <p:sp>
        <p:nvSpPr>
          <p:cNvPr id="85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A large hill which the Greeks built their city-states a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2" descr="http://www.greece-athens.com/gallery_images/56.jpg"/>
          <p:cNvPicPr/>
          <p:nvPr/>
        </p:nvPicPr>
        <p:blipFill>
          <a:blip r:embed="rId2"/>
          <a:srcRect l="0" t="0" r="0" b="23196"/>
          <a:stretch/>
        </p:blipFill>
        <p:spPr>
          <a:xfrm>
            <a:off x="0" y="2189160"/>
            <a:ext cx="9144000" cy="4745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1"/>
          <a:stretch/>
        </p:blipFill>
        <p:spPr>
          <a:xfrm>
            <a:off x="-6480" y="-55440"/>
            <a:ext cx="3749760" cy="976320"/>
          </a:xfrm>
          <a:prstGeom prst="rect">
            <a:avLst/>
          </a:prstGeom>
          <a:ln w="0">
            <a:noFill/>
          </a:ln>
        </p:spPr>
      </p:pic>
      <p:sp>
        <p:nvSpPr>
          <p:cNvPr id="8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A place where Greeks meet and conduct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6" descr="http://t3.gstatic.com/images?q=tbn:ANd9GcSFGyzwts7g4M4s28Mtm6Ekd6dVjJfHCAwib6FrljcsjwqPomBc"/>
          <p:cNvPicPr/>
          <p:nvPr/>
        </p:nvPicPr>
        <p:blipFill>
          <a:blip r:embed="rId2"/>
          <a:stretch/>
        </p:blipFill>
        <p:spPr>
          <a:xfrm>
            <a:off x="2057400" y="1676520"/>
            <a:ext cx="5334120" cy="5333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1"/>
          <a:stretch/>
        </p:blipFill>
        <p:spPr>
          <a:xfrm>
            <a:off x="2481120" y="165240"/>
            <a:ext cx="4138920" cy="114588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838080" y="12952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awmaking place where people voted on issues that helped their 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http://t1.gstatic.com/images?q=tbn:ANd9GcRAql_D7GSSFXfVjtoPeMQVNg7f76VFzdzSSAqOtuOsOoE_4weo4g"/>
          <p:cNvPicPr/>
          <p:nvPr/>
        </p:nvPicPr>
        <p:blipFill>
          <a:blip r:embed="rId2"/>
          <a:stretch/>
        </p:blipFill>
        <p:spPr>
          <a:xfrm>
            <a:off x="1981080" y="2286000"/>
            <a:ext cx="5446800" cy="4191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1" descr=""/>
          <p:cNvPicPr/>
          <p:nvPr/>
        </p:nvPicPr>
        <p:blipFill>
          <a:blip r:embed="rId1"/>
          <a:stretch/>
        </p:blipFill>
        <p:spPr>
          <a:xfrm>
            <a:off x="2987640" y="12600"/>
            <a:ext cx="3187800" cy="114624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2819520" y="1143000"/>
            <a:ext cx="39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erson who has certain rights and responsibilities to his or her coun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http://t2.gstatic.com/images?q=tbn:ANd9GcTU3U0qUf_uSzuRLH-H7yqYX004L82rHP9_1J0o12IjIHnbza-7"/>
          <p:cNvPicPr/>
          <p:nvPr/>
        </p:nvPicPr>
        <p:blipFill>
          <a:blip r:embed="rId2"/>
          <a:stretch/>
        </p:blipFill>
        <p:spPr>
          <a:xfrm>
            <a:off x="1066680" y="2819520"/>
            <a:ext cx="6902640" cy="4038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1" descr=""/>
          <p:cNvPicPr/>
          <p:nvPr/>
        </p:nvPicPr>
        <p:blipFill>
          <a:blip r:embed="rId1"/>
          <a:stretch/>
        </p:blipFill>
        <p:spPr>
          <a:xfrm>
            <a:off x="2998800" y="12600"/>
            <a:ext cx="3249720" cy="114624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2057400" y="16002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roup of people who lived apart from Greece but kept economic ties with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5" descr="http://t0.gstatic.com/images?q=tbn:ANd9GcTEdPYvfDKhP9Mdjtix3WWW1bwEG65gVqQxkDL9st2Xthm-apWz"/>
          <p:cNvPicPr/>
          <p:nvPr/>
        </p:nvPicPr>
        <p:blipFill>
          <a:blip r:embed="rId2"/>
          <a:stretch/>
        </p:blipFill>
        <p:spPr>
          <a:xfrm>
            <a:off x="1981080" y="3200400"/>
            <a:ext cx="5167440" cy="3657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1" descr=""/>
          <p:cNvPicPr/>
          <p:nvPr/>
        </p:nvPicPr>
        <p:blipFill>
          <a:blip r:embed="rId1"/>
          <a:stretch/>
        </p:blipFill>
        <p:spPr>
          <a:xfrm>
            <a:off x="2236680" y="165240"/>
            <a:ext cx="4633920" cy="11458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380880" y="1219320"/>
            <a:ext cx="274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rom of government where people vote to make deci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http://t2.gstatic.com/images?q=tbn:ANd9GcT_OVEJUbNvFVUyt_3RMR_b_TToopVSYc3l5Pf4nYB6yyOAGlUf"/>
          <p:cNvPicPr/>
          <p:nvPr/>
        </p:nvPicPr>
        <p:blipFill>
          <a:blip r:embed="rId2"/>
          <a:stretch/>
        </p:blipFill>
        <p:spPr>
          <a:xfrm>
            <a:off x="3124080" y="1905120"/>
            <a:ext cx="5496120" cy="3657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1" descr=""/>
          <p:cNvPicPr/>
          <p:nvPr/>
        </p:nvPicPr>
        <p:blipFill>
          <a:blip r:embed="rId1"/>
          <a:stretch/>
        </p:blipFill>
        <p:spPr>
          <a:xfrm>
            <a:off x="3602160" y="317520"/>
            <a:ext cx="2371680" cy="11462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1295280" y="14479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hear evidence and make decisions in a court of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63360" y="-547560"/>
            <a:ext cx="118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7" descr="http://t0.gstatic.com/images?q=tbn:ANd9GcTX5SR_BN9hqE7sPbza3XYY76-3Q4ZFA_NvruRo_tZfiI4epNzf"/>
          <p:cNvPicPr/>
          <p:nvPr/>
        </p:nvPicPr>
        <p:blipFill>
          <a:blip r:embed="rId2"/>
          <a:stretch/>
        </p:blipFill>
        <p:spPr>
          <a:xfrm>
            <a:off x="914400" y="2548080"/>
            <a:ext cx="6477120" cy="4309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1" descr=""/>
          <p:cNvPicPr/>
          <p:nvPr/>
        </p:nvPicPr>
        <p:blipFill>
          <a:blip r:embed="rId1"/>
          <a:stretch/>
        </p:blipFill>
        <p:spPr>
          <a:xfrm>
            <a:off x="2462040" y="92160"/>
            <a:ext cx="4176720" cy="1139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1981080" y="1219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 headed by one r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http://t2.gstatic.com/images?q=tbn:ANd9GcQgTIby05agkbKD3qXd7oRu-o0TiZIyGgUtoazgn9pu9eI2pPhH7w"/>
          <p:cNvPicPr/>
          <p:nvPr/>
        </p:nvPicPr>
        <p:blipFill>
          <a:blip r:embed="rId2"/>
          <a:stretch/>
        </p:blipFill>
        <p:spPr>
          <a:xfrm>
            <a:off x="1828800" y="1676520"/>
            <a:ext cx="4800600" cy="4779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15:51:33Z</dcterms:modified>
  <cp:revision>98</cp:revision>
  <dc:subject/>
  <dc:title>Ancient Greece</dc:title>
</cp:coreProperties>
</file>